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EAAE6-BF08-4F57-955E-EDF80B0B4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0A88C-C574-45CF-B772-AC08EAAD3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CEA00-05AA-47C2-9F13-DD5F7231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D86-1EF0-4085-B649-E6B448E9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831-F403-4CE7-9592-999656A8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C0E-B92A-405F-A5DC-1B622E04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D67-6968-4692-AAD9-F6D4E3CD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644E-3FF3-4175-A267-EBABECCF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76C3-5A0D-442A-B448-A1E5437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8820-D05E-4621-8619-89D79B03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DD40-5C7F-4255-8AC7-EA6EE3D4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1639-4CCA-418D-97DE-0503E558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6C6A-25F7-4FC1-B526-A9EA5B22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B420-D4CC-4E87-9E1C-FB3FD7B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E8E-0C1E-4E97-8B4C-EB6D104D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48D9-BA72-43D4-A85D-D17285E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A132-1E6E-49B4-8FE2-85BCFBB9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6DB4-88F8-4CAD-B399-A8324F6E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2BF8-AAD0-4DC6-A6A4-BFD7E5B8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6585-2FAC-410D-ACB6-E795225D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19AD-6983-4937-B862-79C78172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17EA-D592-4A4E-B0DB-22D3CAA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D1DF-AD2B-441D-89F9-57425068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10D3-9D34-46D1-9478-79432516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577C-DC7D-4ECD-A7E6-16BD335B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02B-5C78-49C5-A01C-406E93D1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6712-71D1-4BB0-B010-57CBED8B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1423-3C94-4E4F-B386-C73C36E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4D0D-0472-4EFD-841D-18B0300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38B1-9B94-46F2-8571-CADE884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DA96-EA43-44FE-807B-07E0043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5576-9DEB-445B-AC6E-92140932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4281-2FB4-492C-BF11-4C8A0061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23AB-9E01-42BA-80A0-735C990D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F06C-23F8-4CBD-820A-710BA19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FCF5-404E-4791-A019-06A302D8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CA8-8F6B-439C-827E-7E7C395F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2EFE-FADF-4728-AD1D-9788A309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D1EF-3C38-441B-91AE-35A987B8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DC04-F085-4D28-ABB3-27804D00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1C5F-7A68-4BC1-A377-3927504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A5D4-750F-4B73-9013-525D515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655F-494F-45D5-AF60-024A197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550A-95D0-4141-9A29-0600911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B58A-4B27-474B-B317-46F5F704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3AF6-5245-4225-B78A-2CA49B37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A4DF-D18F-471D-B286-6DF0545F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F7B-DC18-4993-B052-9A00B16E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55A6-FC74-4F68-984D-D743A0B1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B79EA-6D8A-4257-A675-94EF71D1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0F26C-992B-424E-B466-3360F193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9C562-F722-47A1-B8E5-2BF7F1F1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240B9-A42C-40BA-AF75-1D4CFF0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FCC40-EA17-4FB7-9603-E7C8A07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CD6E-1DAF-45FF-A256-F3F44769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75A7-BA95-4E76-93FB-291B921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8076-74A7-48AC-A73A-6239FCEC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3946-28BB-4BA6-8A8C-533A75C0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DA7-5F97-4C99-B0A7-946A5A03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5EE2-5DD2-4FFE-B10C-0F94E07A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6F238-A399-4889-B676-F2A3CA1C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7D311-93E6-4B30-A074-348A9A7F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4E1F7-197E-4FAC-92DC-DA222BD9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D474-CD94-439C-9F36-8AB138A5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48BC-74C6-4ACC-9B18-C1D445B1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28EF5-8A1E-49C7-9C1B-F7F8D2B5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ECCC5-E1A1-4211-BCE7-C613C93E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2AB0-45EA-4036-ABD6-451152E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4B50-7071-46A9-A123-D08F6F2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C52-3C40-460E-B8A4-BB166B14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2B440-C877-4128-973E-FC2F6452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FA18D-14E7-43E7-A928-9FD82DD8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D2949-8F41-4928-8E6A-BD35BD10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CBA12-BC37-4901-9D1D-051E26C2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D54D5-1757-4EEC-85C9-CFFDAFD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140D-E364-487D-8FFF-CD720D79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D7204-F363-4CDF-A31D-B898D744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8098E-39C6-4917-954A-647FF20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D2C95-ED4F-4FEB-8313-2ADB0987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2B7C5-F5BD-4CE5-B9EE-9F055B7B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3DF-2181-4AE8-BDFB-F8E71CF2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2D8F3-E089-4D39-A68D-7B0089A0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D330A-718C-4007-AEB8-CC4E42EC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8209-F4C2-48DF-AFA3-C14AB541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58DB1-3E26-49B5-ABA9-F5ADD50F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16705-EEBF-4F8C-B15D-9216039E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98F83-B4E2-40FF-AEEC-AF055C4D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726F3-1BC0-4BD5-BE16-331A4D5E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13855-C711-44EB-BB58-8DEA59BC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6FD50-67F9-40F2-95D1-81CB8658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28735-ABA8-42C3-9531-E7854306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468-D5BF-4747-BF59-2870042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6C70D-8C89-481A-9AE2-1305B5B3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ADF6C-4B77-452C-9DB8-612052D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FF496-3484-4DA7-B09C-D0EDFD8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1A55F-4BD5-476E-9803-1A07625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13EAE-022E-4CB1-9707-15799449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168C8-13D7-40AC-B9A3-49613993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96DB0-E131-48D7-A04B-CEA8A7B5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2B9B9-F8F0-462B-8FD5-608F4860DD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0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1970D-AE2D-449B-9BD8-ECA7D5562F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0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887A3-5E65-4371-BF05-BBE01E8064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2CD92-5C19-4E91-845D-F986AA69C3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4BCCB-4A21-41F8-97AF-12E1A0F062EF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AD036-CF55-42FB-B803-97FAE7C42D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ADE74-0142-4CC6-90C4-32D39F6C57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BAE62-72AC-40CF-AF9A-58B1C0AF6A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jniq66uKzKAhUCuBoKHZ-kA9sQjRwIBw&amp;url=http%3A%2F%2Fwww.biologyexams4u.com%2F2013%2F02%2Fchromosome-ultra-structure.html&amp;psig=AFQjCNGJu-EvR30mGDQ_6M2eIFiyri3MnQ&amp;ust=145296865986245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ХУМАНИ ХРОМОЗОМИ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320" y="287280"/>
            <a:ext cx="899136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Нуклеозом-</a:t>
            </a:r>
            <a:r>
              <a:rPr b="1" lang="sr-CS" sz="3200" spc="-1" strike="noStrike">
                <a:solidFill>
                  <a:srgbClr val="404040"/>
                </a:solidFill>
                <a:latin typeface="Arial"/>
                <a:ea typeface="Arial"/>
              </a:rPr>
              <a:t>основна јединица грађе хроматина, а први ниво паковања је нуклеозомна нит која је пречника 11 </a:t>
            </a:r>
            <a:r>
              <a:rPr b="1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nm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Picture 8" descr=""/>
          <p:cNvPicPr/>
          <p:nvPr/>
        </p:nvPicPr>
        <p:blipFill>
          <a:blip r:embed="rId1"/>
          <a:stretch/>
        </p:blipFill>
        <p:spPr>
          <a:xfrm>
            <a:off x="523800" y="2514600"/>
            <a:ext cx="80964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 Light"/>
              </a:rPr>
              <a:t>2. </a:t>
            </a:r>
            <a:r>
              <a:rPr b="0" lang="sr-RS" sz="4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Н</a:t>
            </a:r>
            <a:r>
              <a:rPr b="0" lang="sr-CS" sz="4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хистон</a:t>
            </a:r>
            <a:r>
              <a:rPr b="0" lang="sr-CS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СКИ ПРОТЕИНИ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У малој количини су заступљени у хромозому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Они су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Ензими репликације и транскрип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250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Модификатори  хисто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250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Регулаторни протеини-специфични активатори ге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87280"/>
            <a:ext cx="798516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66"/>
                </a:solidFill>
                <a:latin typeface="Arial"/>
                <a:ea typeface="Arial"/>
              </a:rPr>
              <a:t>Морфологија хромозом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86564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новна јединица грађе хромозома је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ДНП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влакно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(дезоксирибонуклеопротеинско влакно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  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ил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хроматинско влакно-хромонем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b620e"/>
                </a:solidFill>
                <a:latin typeface="Arial"/>
                <a:ea typeface="Arial"/>
              </a:rPr>
              <a:t>           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ORGANIZACIJA HROMATINA"/>
          <p:cNvPicPr/>
          <p:nvPr/>
        </p:nvPicPr>
        <p:blipFill>
          <a:blip r:embed="rId1"/>
          <a:srcRect l="28998" t="0" r="0" b="7316"/>
          <a:stretch/>
        </p:blipFill>
        <p:spPr>
          <a:xfrm>
            <a:off x="3657600" y="506520"/>
            <a:ext cx="3090960" cy="57909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2438280" y="380880"/>
            <a:ext cx="1219320" cy="398520"/>
          </a:xfrm>
          <a:prstGeom prst="rect">
            <a:avLst/>
          </a:prstGeom>
          <a:solidFill>
            <a:srgbClr val="ccd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000" spc="-1" strike="noStrike">
                <a:solidFill>
                  <a:srgbClr val="003399"/>
                </a:solidFill>
                <a:latin typeface="Arial Black"/>
              </a:rPr>
              <a:t>Сегмент  молекула ДН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438280" y="1143000"/>
            <a:ext cx="1219320" cy="398520"/>
          </a:xfrm>
          <a:prstGeom prst="rect">
            <a:avLst/>
          </a:prstGeom>
          <a:solidFill>
            <a:srgbClr val="ccd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000" spc="-1" strike="noStrike">
                <a:solidFill>
                  <a:srgbClr val="003399"/>
                </a:solidFill>
                <a:latin typeface="Arial Black"/>
              </a:rPr>
              <a:t>Нуклеозомнан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2438280" y="2193840"/>
            <a:ext cx="1219320" cy="398520"/>
          </a:xfrm>
          <a:prstGeom prst="rect">
            <a:avLst/>
          </a:prstGeom>
          <a:solidFill>
            <a:srgbClr val="ccd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000" spc="-1" strike="noStrike">
                <a:solidFill>
                  <a:srgbClr val="003399"/>
                </a:solidFill>
                <a:latin typeface="Arial Black"/>
              </a:rPr>
              <a:t>Хроматинскан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2438280" y="3124080"/>
            <a:ext cx="1219320" cy="550800"/>
          </a:xfrm>
          <a:prstGeom prst="rect">
            <a:avLst/>
          </a:prstGeom>
          <a:solidFill>
            <a:srgbClr val="ccd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000" spc="-1" strike="noStrike">
                <a:solidFill>
                  <a:srgbClr val="003399"/>
                </a:solidFill>
                <a:latin typeface="Arial Black"/>
              </a:rPr>
              <a:t>Петље хроматинске ни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438280" y="4191120"/>
            <a:ext cx="1219320" cy="398520"/>
          </a:xfrm>
          <a:prstGeom prst="rect">
            <a:avLst/>
          </a:prstGeom>
          <a:solidFill>
            <a:srgbClr val="ccd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000" spc="-1" strike="noStrike">
                <a:solidFill>
                  <a:srgbClr val="003399"/>
                </a:solidFill>
                <a:latin typeface="Arial Black"/>
              </a:rPr>
              <a:t>Кондензованахроматид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362320" y="5562720"/>
            <a:ext cx="1295280" cy="398520"/>
          </a:xfrm>
          <a:prstGeom prst="rect">
            <a:avLst/>
          </a:prstGeom>
          <a:solidFill>
            <a:srgbClr val="ccd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000" spc="-1" strike="noStrike">
                <a:solidFill>
                  <a:srgbClr val="002060"/>
                </a:solidFill>
                <a:latin typeface="Arial Black"/>
              </a:rPr>
              <a:t>Метафазни хромоз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mikrografija nukleozom"/>
          <p:cNvPicPr/>
          <p:nvPr/>
        </p:nvPicPr>
        <p:blipFill>
          <a:blip r:embed="rId1"/>
          <a:stretch/>
        </p:blipFill>
        <p:spPr>
          <a:xfrm>
            <a:off x="1828800" y="2571840"/>
            <a:ext cx="5649840" cy="17715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3124080" y="1981080"/>
            <a:ext cx="2971800" cy="368280"/>
          </a:xfrm>
          <a:prstGeom prst="rect">
            <a:avLst/>
          </a:prstGeom>
          <a:solidFill>
            <a:srgbClr val="ff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r-CS" sz="1800" spc="-1" strike="noStrike">
                <a:solidFill>
                  <a:srgbClr val="003399"/>
                </a:solidFill>
                <a:latin typeface="Arial"/>
              </a:rPr>
              <a:t>ХРОМАТИНСКА Н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3124080" y="4572000"/>
            <a:ext cx="25909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r-CS" sz="1800" spc="-1" strike="noStrike">
                <a:solidFill>
                  <a:srgbClr val="003399"/>
                </a:solidFill>
                <a:latin typeface="Arial"/>
              </a:rPr>
              <a:t>НУКЛЕОЗОМНА Н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romozom elek mikro-1"/>
          <p:cNvPicPr/>
          <p:nvPr/>
        </p:nvPicPr>
        <p:blipFill>
          <a:blip r:embed="rId1"/>
          <a:stretch/>
        </p:blipFill>
        <p:spPr>
          <a:xfrm>
            <a:off x="1517760" y="0"/>
            <a:ext cx="57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Arial"/>
                <a:ea typeface="Arial"/>
              </a:rPr>
              <a:t>Метафазни хромозоми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91" name="Picture 6" descr="HROMOZOMI 4 I 5"/>
          <p:cNvPicPr/>
          <p:nvPr/>
        </p:nvPicPr>
        <p:blipFill>
          <a:blip r:embed="rId1"/>
          <a:srcRect l="0" t="0" r="0" b="50006"/>
          <a:stretch/>
        </p:blipFill>
        <p:spPr>
          <a:xfrm>
            <a:off x="1600200" y="2286000"/>
            <a:ext cx="5715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На метафазном хромозому могу се уочити следећи региони: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846440"/>
            <a:ext cx="80611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Calibri"/>
              </a:rPr>
              <a:t>1.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центромер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2. еухроматин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хетрохроматин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4. секундарно сужењ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5. теломер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6.сателити на акроцентричним хромозомим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4" name="Picture 2" descr="http://1.bp.blogspot.com/-wKefwmQBduY/UEMls4PTSZI/AAAAAAAAA14/oyfkwBYuR9w/s400/chromosome+ultra+structure+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16765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http://www.fragmenthealth.com/galery/centromere.jpg"/>
          <p:cNvPicPr/>
          <p:nvPr/>
        </p:nvPicPr>
        <p:blipFill>
          <a:blip r:embed="rId1"/>
          <a:stretch/>
        </p:blipFill>
        <p:spPr>
          <a:xfrm>
            <a:off x="2590920" y="1219320"/>
            <a:ext cx="237168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2.estrellamountain.edu/faculty/farabee/Biobk/chromosome1.gif"/>
          <p:cNvPicPr/>
          <p:nvPr/>
        </p:nvPicPr>
        <p:blipFill>
          <a:blip r:embed="rId2"/>
          <a:stretch/>
        </p:blipFill>
        <p:spPr>
          <a:xfrm>
            <a:off x="990720" y="3979800"/>
            <a:ext cx="2786040" cy="1676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คลิ๊กเพื่อดูภาพขยาย"/>
          <p:cNvPicPr/>
          <p:nvPr/>
        </p:nvPicPr>
        <p:blipFill>
          <a:blip r:embed="rId3"/>
          <a:stretch/>
        </p:blipFill>
        <p:spPr>
          <a:xfrm>
            <a:off x="4724280" y="3610080"/>
            <a:ext cx="2971800" cy="26668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"/>
          <p:cNvSpPr/>
          <p:nvPr/>
        </p:nvSpPr>
        <p:spPr>
          <a:xfrm>
            <a:off x="955800" y="304920"/>
            <a:ext cx="6858000" cy="7617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Центромера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http://bio3400.nicerweb.com/Locked/media/ch02/02_03-centromere.jpg"/>
          <p:cNvPicPr/>
          <p:nvPr/>
        </p:nvPicPr>
        <p:blipFill>
          <a:blip r:embed="rId1"/>
          <a:srcRect l="24152" t="7122" r="24982" b="0"/>
          <a:stretch/>
        </p:blipFill>
        <p:spPr>
          <a:xfrm>
            <a:off x="1565280" y="1066680"/>
            <a:ext cx="5867280" cy="50086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"/>
          <p:cNvSpPr/>
          <p:nvPr/>
        </p:nvSpPr>
        <p:spPr>
          <a:xfrm>
            <a:off x="609480" y="519120"/>
            <a:ext cx="7543800" cy="3808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рсте хромозома у односу на положај центроме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762120" y="6075360"/>
            <a:ext cx="7848360" cy="64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У хуманом кариотипу 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  <a:ea typeface="Arial"/>
              </a:rPr>
              <a:t>нормално се налазе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  мета, субмета и акроцентрични хромозо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965240" y="1568520"/>
            <a:ext cx="2133720" cy="5331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метацентр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1565280" y="2819520"/>
            <a:ext cx="2705040" cy="533160"/>
          </a:xfrm>
          <a:prstGeom prst="rect">
            <a:avLst/>
          </a:prstGeom>
          <a:solidFill>
            <a:srgbClr val="fbe6ce"/>
          </a:solidFill>
          <a:ln w="15840">
            <a:solidFill>
              <a:srgbClr val="fbe6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убметацентр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2057400" y="4191120"/>
            <a:ext cx="2133720" cy="5331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кроцентр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1962000" y="5257800"/>
            <a:ext cx="2133720" cy="533520"/>
          </a:xfrm>
          <a:prstGeom prst="rect">
            <a:avLst/>
          </a:prstGeom>
          <a:solidFill>
            <a:srgbClr val="fbe6ce"/>
          </a:solidFill>
          <a:ln w="15840">
            <a:solidFill>
              <a:srgbClr val="fbe6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телоцентр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66"/>
                </a:solidFill>
                <a:latin typeface="Arial"/>
                <a:ea typeface="Arial"/>
              </a:rPr>
              <a:t>ХРОМОЗОМ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240" y="190512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Налазе се у једру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ћелиј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ли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читог су изгледа у зависности од фазе ћелијског циклуса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 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у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нтерфазном једру-хроматинска мреж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од почетка ћел. деобе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–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хроматин се кондензује и организује у хромозме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rcRect l="7968" t="0" r="6392" b="0"/>
          <a:stretch/>
        </p:blipFill>
        <p:spPr>
          <a:xfrm>
            <a:off x="5562720" y="3962520"/>
            <a:ext cx="327636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ухроматин и хетерохроматин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07" name="Picture 2" descr="Chromation Structure3"/>
          <p:cNvPicPr/>
          <p:nvPr/>
        </p:nvPicPr>
        <p:blipFill>
          <a:blip r:embed="rId1"/>
          <a:stretch/>
        </p:blipFill>
        <p:spPr>
          <a:xfrm>
            <a:off x="1600200" y="1832040"/>
            <a:ext cx="5715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79520" y="10918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ЕУХРОМАТИН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l-SI" sz="3200" spc="-1" strike="noStrike">
                <a:solidFill>
                  <a:srgbClr val="404040"/>
                </a:solidFill>
                <a:latin typeface="Arial"/>
                <a:ea typeface="Arial"/>
              </a:rPr>
              <a:t>– </a:t>
            </a:r>
            <a:r>
              <a:rPr b="0" lang="sl-SI" sz="3200" spc="-1" strike="noStrike">
                <a:solidFill>
                  <a:srgbClr val="0070c0"/>
                </a:solidFill>
                <a:latin typeface="Arial"/>
                <a:ea typeface="Arial"/>
              </a:rPr>
              <a:t>активн</a:t>
            </a:r>
            <a:r>
              <a:rPr b="0" lang="sr-RS" sz="3200" spc="-1" strike="noStrike">
                <a:solidFill>
                  <a:srgbClr val="0070c0"/>
                </a:solidFill>
                <a:latin typeface="Arial"/>
                <a:ea typeface="Arial"/>
              </a:rPr>
              <a:t>и</a:t>
            </a:r>
            <a:r>
              <a:rPr b="0" lang="sl-SI" sz="32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хроматин</a:t>
            </a:r>
            <a:br>
              <a:rPr sz="43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560" y="182088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растресит у интерфаз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кодирајуће секвенц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нешто богатији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 -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 паровим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рано се репликује у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 фаз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0" name="Picture 2" descr="http://bio3400.nicerweb.com/Locked/media/ch07/07_08-Y_chromosome.jpg"/>
          <p:cNvPicPr/>
          <p:nvPr/>
        </p:nvPicPr>
        <p:blipFill>
          <a:blip r:embed="rId1"/>
          <a:srcRect l="0" t="0" r="59380" b="0"/>
          <a:stretch/>
        </p:blipFill>
        <p:spPr>
          <a:xfrm>
            <a:off x="6172200" y="1649520"/>
            <a:ext cx="1973160" cy="40384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3"/>
          <p:cNvSpPr/>
          <p:nvPr/>
        </p:nvSpPr>
        <p:spPr>
          <a:xfrm>
            <a:off x="6491160" y="5500800"/>
            <a:ext cx="2210040" cy="6858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Хума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2" name="Straight Arrow Connector 5"/>
          <p:cNvCxnSpPr/>
          <p:nvPr/>
        </p:nvCxnSpPr>
        <p:spPr>
          <a:xfrm flipV="1">
            <a:off x="6959160" y="3733560"/>
            <a:ext cx="723240" cy="38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3" name="Straight Arrow Connector 8"/>
          <p:cNvCxnSpPr/>
          <p:nvPr/>
        </p:nvCxnSpPr>
        <p:spPr>
          <a:xfrm flipV="1">
            <a:off x="6873480" y="2742840"/>
            <a:ext cx="723240" cy="38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ХЕТЕРОХРОМАТИН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22240" y="1846440"/>
            <a:ext cx="778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кондензован у интерфаз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нешто богатији А-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Т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паровим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касно се репликује у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 фаз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КОНСТИТУТИВН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центромерни – високо репетитивне секвенц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интеркаларни – средње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(умерено)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 репетитивне  секвенц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ФАКУЛТАТИВН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р.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нактивни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  <a:ea typeface="Arial"/>
              </a:rPr>
              <a:t>X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хромозом- Барово тело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66"/>
                </a:solidFill>
                <a:latin typeface="Arial"/>
                <a:ea typeface="Arial"/>
              </a:rPr>
              <a:t>СЕКУНАРНО СУЖЕЊЕ ХРОМОЗОМА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846440"/>
            <a:ext cx="79088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Улога-синтеза материјала који улази у грађу нуклеолуса</a:t>
            </a:r>
            <a:r>
              <a:rPr b="0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r>
              <a:rPr b="1" i="1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организатор нуклеолуса</a:t>
            </a:r>
            <a:r>
              <a:rPr b="1" i="1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 (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NOR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Најуочљивиј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су на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Q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крацима 1, 9, 16 хромозома и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i="1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Р </a:t>
            </a:r>
            <a:r>
              <a:rPr b="0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крацима акроцентрик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Функционално су 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активни регион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(гени за рРНК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8" name="Picture 7" descr="http://biology.homeomagnet.com/wp-content/uploads/2015/12/chromosome-straucture-copy.jpg"/>
          <p:cNvPicPr/>
          <p:nvPr/>
        </p:nvPicPr>
        <p:blipFill>
          <a:blip r:embed="rId1"/>
          <a:stretch/>
        </p:blipFill>
        <p:spPr>
          <a:xfrm>
            <a:off x="5638680" y="2997360"/>
            <a:ext cx="304812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66"/>
                </a:solidFill>
                <a:latin typeface="Arial"/>
                <a:ea typeface="Arial"/>
              </a:rPr>
              <a:t>ТЕЛОМЕРЕ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2057400"/>
            <a:ext cx="79088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buClr>
                <a:srgbClr val="86564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Представљају 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крајев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е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хромозома.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buClr>
                <a:srgbClr val="8656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Улога теломера је: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-о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државају </a:t>
            </a:r>
            <a:r>
              <a:rPr b="0" lang="sr-Latn-CS" sz="1900" spc="-1" strike="noStrike">
                <a:solidFill>
                  <a:srgbClr val="0070c0"/>
                </a:solidFill>
                <a:latin typeface="Arial"/>
                <a:ea typeface="Arial"/>
              </a:rPr>
              <a:t>линеарни интегритет хромозома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-то су р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егиони који </a:t>
            </a:r>
            <a:r>
              <a:rPr b="0" lang="sr-Latn-CS" sz="1900" spc="-1" strike="noStrike">
                <a:solidFill>
                  <a:srgbClr val="0070c0"/>
                </a:solidFill>
                <a:latin typeface="Arial"/>
                <a:ea typeface="Arial"/>
              </a:rPr>
              <a:t>подлежу променама током живота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-ј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една од теорија старења –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теломере 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регули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шу дужину живота ћелија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-то су региони којима се хромозоми повезују за унутрашњу страну једарне мембране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buClr>
                <a:srgbClr val="86564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buClr>
                <a:srgbClr val="86564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Код свих кичмењака с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адр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же секвенц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у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ДН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К -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ТТАGGG.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21" name="Picture 5" descr="http://1.bp.blogspot.com/-wKefwmQBduY/UEMls4PTSZI/AAAAAAAAA14/oyfkwBYuR9w/s1600/chromosome+ultra+structure+1.jpg"/>
          <p:cNvPicPr/>
          <p:nvPr/>
        </p:nvPicPr>
        <p:blipFill>
          <a:blip r:embed="rId1"/>
          <a:stretch/>
        </p:blipFill>
        <p:spPr>
          <a:xfrm>
            <a:off x="6324480" y="210960"/>
            <a:ext cx="24768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БОЈЕЊЕ ТЕЛОМЕР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- FISH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ЕТОДА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23" name="Picture 4" descr="humani genom telomere"/>
          <p:cNvPicPr/>
          <p:nvPr/>
        </p:nvPicPr>
        <p:blipFill>
          <a:blip r:embed="rId1"/>
          <a:srcRect l="-44519" t="0" r="0" b="0"/>
          <a:stretch/>
        </p:blipFill>
        <p:spPr>
          <a:xfrm>
            <a:off x="228600" y="1828800"/>
            <a:ext cx="64422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8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Сателит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1"/>
          <a:srcRect l="57185" t="42635" r="9118" b="20215"/>
          <a:stretch/>
        </p:blipFill>
        <p:spPr>
          <a:xfrm>
            <a:off x="804960" y="2705040"/>
            <a:ext cx="3081240" cy="24386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>
            <a:off x="990720" y="3124080"/>
            <a:ext cx="45720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4905360" y="2286000"/>
            <a:ext cx="2895480" cy="3276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-Налазе се на </a:t>
            </a:r>
            <a:r>
              <a:rPr b="1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рацима акроцентрика, изнад секундарног суж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- То су 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функционално неактивни региони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66"/>
                </a:solidFill>
                <a:latin typeface="Arial"/>
                <a:ea typeface="Arial"/>
              </a:rPr>
              <a:t>СТАНДАРДИЗАЦИЈА ХУМАНОГ КАРИОТИПА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звршена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је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на скуповима у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Денверу 1960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Лондону 1963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Чикагу 1966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аризу 1971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и су разврстани у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груп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A, B, C, D, E, F i G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 (Чикаго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31" name="Picture 5" descr="solidktp"/>
          <p:cNvPicPr/>
          <p:nvPr/>
        </p:nvPicPr>
        <p:blipFill>
          <a:blip r:embed="rId1"/>
          <a:stretch/>
        </p:blipFill>
        <p:spPr>
          <a:xfrm>
            <a:off x="1523880" y="1752480"/>
            <a:ext cx="54342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04040"/>
                </a:solidFill>
                <a:latin typeface="Arial"/>
                <a:ea typeface="Arial"/>
              </a:rPr>
              <a:t>Усвојене су и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формуле</a:t>
            </a:r>
            <a:r>
              <a:rPr b="0" lang="sr-CS" sz="2800" spc="-1" strike="noStrike">
                <a:solidFill>
                  <a:srgbClr val="404040"/>
                </a:solidFill>
                <a:latin typeface="Arial"/>
                <a:ea typeface="Arial"/>
              </a:rPr>
              <a:t> за писање нормалног и аберантних кариотипова: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-Нормалан женски кариотип 46, ХХ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-Нормалан мушки кариотип 46,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X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-Девојчица са Дауновим синдром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47, ХХ (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+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21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-Тарнеров синдром 45, ХО...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5712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Хомологи хромозоми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телесним </a:t>
            </a:r>
            <a:r>
              <a:rPr b="0" lang="sr-Latn-C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ћ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елијама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човека-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46 хромозома (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23 пар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хомологих хромозом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)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lang="sr-RS" sz="20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(диплоидан број хромозома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22 пара аутозомни хромозоми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 </a:t>
            </a:r>
            <a:r>
              <a:rPr b="0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1 пар полни хромозом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Женски пол- XX полни хромозом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Мушки пол- XY полни хромозом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У </a:t>
            </a:r>
            <a:r>
              <a:rPr b="0" lang="sr-R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полним ћелијама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човека -23 хромозома (22 су аутозомни хромозоми и 1 је полни хромозом)-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(хаплоидан број хромозома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rcRect l="0" t="24401" r="0" b="11603"/>
          <a:stretch/>
        </p:blipFill>
        <p:spPr>
          <a:xfrm>
            <a:off x="6078600" y="228600"/>
            <a:ext cx="270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хнике за диференцијално бојење хромозом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G, Q, R, C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 (Париз)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35" name="Picture 13" descr="dobar G band"/>
          <p:cNvPicPr/>
          <p:nvPr/>
        </p:nvPicPr>
        <p:blipFill>
          <a:blip r:embed="rId1"/>
          <a:stretch/>
        </p:blipFill>
        <p:spPr>
          <a:xfrm>
            <a:off x="2133720" y="1879560"/>
            <a:ext cx="4354560" cy="3657600"/>
          </a:xfrm>
          <a:prstGeom prst="rect">
            <a:avLst/>
          </a:prstGeom>
          <a:ln w="9360">
            <a:solidFill>
              <a:srgbClr val="ed613b"/>
            </a:solidFill>
            <a:miter/>
          </a:ln>
        </p:spPr>
      </p:pic>
      <p:sp>
        <p:nvSpPr>
          <p:cNvPr id="436" name="Rectangle 1"/>
          <p:cNvSpPr/>
          <p:nvPr/>
        </p:nvSpPr>
        <p:spPr>
          <a:xfrm>
            <a:off x="1752480" y="5638680"/>
            <a:ext cx="5715000" cy="4161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техника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, 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8" descr="humani genom C bend"/>
          <p:cNvPicPr/>
          <p:nvPr/>
        </p:nvPicPr>
        <p:blipFill>
          <a:blip r:embed="rId1"/>
          <a:stretch/>
        </p:blipFill>
        <p:spPr>
          <a:xfrm>
            <a:off x="2133720" y="1892160"/>
            <a:ext cx="4406760" cy="42976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"/>
          <p:cNvSpPr/>
          <p:nvPr/>
        </p:nvSpPr>
        <p:spPr>
          <a:xfrm>
            <a:off x="2743200" y="668160"/>
            <a:ext cx="229716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sr-CS" sz="3600" spc="-1" strike="noStrike">
                <a:solidFill>
                  <a:srgbClr val="ff0066"/>
                </a:solidFill>
                <a:latin typeface="Arial"/>
                <a:ea typeface="Arial"/>
              </a:rPr>
              <a:t>Кариотип, кариограм, идиограм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Кариотип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куп хромозома у ћелиј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Кариограм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 фотографисани, изрезани хромозоми, наређани по облику и величин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Идиограм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шематски приказ региона и субрегиона хромозома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кариограм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404040"/>
                </a:solidFill>
                <a:latin typeface="Calibri Light"/>
              </a:rPr>
              <a:t> </a:t>
            </a:r>
            <a:r>
              <a:rPr b="0" lang="sr-Latn-CS" sz="4800" spc="-1" strike="noStrike">
                <a:solidFill>
                  <a:srgbClr val="404040"/>
                </a:solidFill>
                <a:latin typeface="Calibri Light"/>
              </a:rPr>
              <a:t>	</a:t>
            </a:r>
            <a:r>
              <a:rPr b="0" lang="sr-Latn-CS" sz="4800" spc="-1" strike="noStrike">
                <a:solidFill>
                  <a:srgbClr val="404040"/>
                </a:solidFill>
                <a:latin typeface="Calibri Light"/>
              </a:rPr>
              <a:t>Humani kariotip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Picture 8" descr="multikolor fish"/>
          <p:cNvPicPr/>
          <p:nvPr/>
        </p:nvPicPr>
        <p:blipFill>
          <a:blip r:embed="rId1"/>
          <a:stretch/>
        </p:blipFill>
        <p:spPr>
          <a:xfrm>
            <a:off x="380880" y="533520"/>
            <a:ext cx="833148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1911240" y="1143000"/>
            <a:ext cx="5319720" cy="5121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2209680" y="304920"/>
            <a:ext cx="4724640" cy="6858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Идио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914040" y="121932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404040"/>
                </a:solidFill>
                <a:latin typeface="Arial"/>
                <a:ea typeface="Arial"/>
              </a:rPr>
              <a:t>СТРУКТУРА ХРОМОЗОМА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ХЕМИЈСКИ САСТАВ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МОРФОЛОШКИ ИЗГЛЕ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66"/>
                </a:solidFill>
                <a:latin typeface="Arial"/>
                <a:ea typeface="Arial"/>
              </a:rPr>
              <a:t>ХЕМИЈСКИ САСТАВ ХРОМОЗОМА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b050"/>
                </a:solidFill>
                <a:latin typeface="Arial"/>
                <a:ea typeface="Arial"/>
              </a:rPr>
              <a:t>ЕУКАРИОТ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70c0"/>
                </a:solidFill>
                <a:latin typeface="Arial"/>
                <a:ea typeface="Arial"/>
              </a:rPr>
              <a:t>ДНК +РНК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 +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Протеини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=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Хроматин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 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(око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r>
              <a:rPr b="0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0%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70c0"/>
                </a:solidFill>
                <a:latin typeface="Arial"/>
                <a:ea typeface="Arial"/>
              </a:rPr>
              <a:t>протеини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b050"/>
                </a:solidFill>
                <a:latin typeface="Arial"/>
                <a:ea typeface="Arial"/>
              </a:rPr>
              <a:t>ПРОКАРИОТ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70c0"/>
                </a:solidFill>
                <a:latin typeface="Arial"/>
                <a:ea typeface="Arial"/>
              </a:rPr>
              <a:t>ДНК +РНК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 +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Протеини    (око 1</a:t>
            </a:r>
            <a:r>
              <a:rPr b="0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0%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70c0"/>
                </a:solidFill>
                <a:latin typeface="Arial"/>
                <a:ea typeface="Arial"/>
              </a:rPr>
              <a:t>протеини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КЛАСЕ ПРОТЕИН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хистони и нехистони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947880"/>
            <a:ext cx="8610480" cy="54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04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ХИСТОН</a:t>
            </a:r>
            <a:r>
              <a:rPr b="1" lang="sr-RS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СКИ ПРОТЕИНИ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-мали протеини (100- 200 аминокиселина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- 20-30% АРГИНИН+  и  ЛИЗИН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86564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Arial"/>
                <a:ea typeface="Arial"/>
              </a:rPr>
              <a:t>Улога хистонских протеина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1. ва</a:t>
            </a:r>
            <a:r>
              <a:rPr b="1" lang="hr-HR" sz="2400" spc="-1" strike="noStrike">
                <a:solidFill>
                  <a:srgbClr val="404040"/>
                </a:solidFill>
                <a:latin typeface="Arial"/>
                <a:ea typeface="Arial"/>
              </a:rPr>
              <a:t>жни </a:t>
            </a:r>
            <a:r>
              <a:rPr b="1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су </a:t>
            </a:r>
            <a:r>
              <a:rPr b="1" lang="hr-HR" sz="2400" spc="-1" strike="noStrike">
                <a:solidFill>
                  <a:srgbClr val="404040"/>
                </a:solidFill>
                <a:latin typeface="Arial"/>
                <a:ea typeface="Arial"/>
              </a:rPr>
              <a:t>за структурну организацију хроматин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2. то су </a:t>
            </a:r>
            <a:r>
              <a:rPr b="1" lang="hr-HR" sz="2400" spc="-1" strike="noStrike">
                <a:solidFill>
                  <a:srgbClr val="404040"/>
                </a:solidFill>
                <a:latin typeface="Arial"/>
                <a:ea typeface="Arial"/>
              </a:rPr>
              <a:t>неспецифични инхибитори експресије ген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86564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Класе хистонских протеина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2bab2b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H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; H2A; H2B; H3; H4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6172200" y="4905360"/>
            <a:ext cx="2209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0:09:48Z</dcterms:created>
  <dc:creator>prodekan 01</dc:creator>
  <dc:description/>
  <dc:language>en-US</dc:language>
  <cp:lastModifiedBy>Olivera Milošević-Đorđević</cp:lastModifiedBy>
  <dcterms:modified xsi:type="dcterms:W3CDTF">2023-01-31T19:05:36Z</dcterms:modified>
  <cp:revision>138</cp:revision>
  <dc:subject/>
  <dc:title>CITOGENETIKA</dc:title>
</cp:coreProperties>
</file>